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4D89-0662-444C-B56F-A1CFF135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0CF9-1385-48F0-A258-58DA84D9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3DB6-D58C-41A9-B612-620BAE84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34CE-FCE6-46BB-BAD3-E6ADB684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892F-17CE-4E65-AE32-0413960A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2700-AA50-4A02-A5EA-460360FA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F1E-2D83-4D61-B350-CCDFA8D1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FA85-002A-4C6A-A354-3B74D7C3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B90A-17DC-4463-BFF7-F8FA1387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253C-0634-43FC-A411-1AEF832F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DB74-3CF5-4B3A-A51B-AF00BE39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E463-353D-49B8-ADAF-0288AE09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0085-4716-450A-B203-32F50DA146B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is documentos\Sin título-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Mis documentos\Sin título-1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Mis documentos\Sin título-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Mis documentos\Sin título-1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Mis documentos\Sin título-1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11:34:19Z</dcterms:created>
  <dc:creator>Grupo Editorial</dc:creator>
  <dc:description/>
  <dc:language>en-US</dc:language>
  <cp:lastModifiedBy>TORRES</cp:lastModifiedBy>
  <dcterms:modified xsi:type="dcterms:W3CDTF">2010-12-18T22:20:07Z</dcterms:modified>
  <cp:revision>1</cp:revision>
  <dc:subject/>
  <dc:title>Sin título de diapositiva</dc:title>
</cp:coreProperties>
</file>